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336C-78B9-4AFD-AD26-84F5BB50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3855-D0B7-4E07-B446-8263ABCA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225E-AC2E-4201-B3D4-8F504FC6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1F63-3823-4A78-83D2-E4667F2E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91DF-569A-4363-9E55-F51BF81D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AE17-3A53-475B-9C52-ABA1102F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9D92-0F20-4237-AB3A-A7B17AC0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E87F-A308-41D6-9E83-E6338127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5957-5BE1-4BEB-A820-69C3F802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20D0-8846-4FA4-97E2-6A9E53BB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BC2B-3A35-497F-B257-4F2A9791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BB65-1342-49FC-B9E3-5196F47E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0BD4-F72F-4DA6-95B3-BAF15087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FFE4-4959-4C8A-AE6C-3289E0EE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E96C-73E0-4627-B0DC-80421F66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6D14-F0CC-483C-9C8D-B7132321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EDFF-EED0-463E-B3A9-6793C7A9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4042-56DC-4C58-B473-FF7C16FD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EC68-94B0-46C8-B14A-65ADADDB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012E-EAEA-4ECA-8464-801A8F4E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4690-9A8F-46DE-8018-91C8D4E0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758D-D003-400C-89FD-00446EE8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78EF-0E21-468A-9793-ED70AD77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E1EF-06F4-4FEA-89E1-8A191867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3D66-4146-4C7C-956E-324044DB4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9030-9E61-44A6-BFF4-FBFFE99BD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epa.gse.rutgers.edu/whatweknow.pdf" TargetMode="External"/><Relationship Id="rId2" Type="http://schemas.openxmlformats.org/officeDocument/2006/relationships/hyperlink" Target="http://www.cepa.gse.rutgers.edu/whatweknow.pdf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2133720"/>
            <a:ext cx="762012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haracteristics of Successful Schools Based on Research!</a:t>
            </a: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38080" y="4419720"/>
            <a:ext cx="6870960" cy="1371600"/>
          </a:xfrm>
          <a:prstGeom prst="rect">
            <a:avLst/>
          </a:prstGeom>
          <a:solidFill>
            <a:srgbClr val="703dff">
              <a:alpha val="41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summary of 9 characteristic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rom: </a:t>
            </a: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hat we know about successful school leadership</a:t>
            </a: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2003).  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Administration American Education Research (AERA)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200400" y="304920"/>
            <a:ext cx="5943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. Jay Marin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ssociate Superintendent for Organizational Effectiveness &amp; Accountabi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03dff"/>
                </a:solidFill>
                <a:latin typeface="Comic Sans MS"/>
              </a:rPr>
              <a:t>Effective School Leadership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ffective instructional and administrative leadership is required to implement change processes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ffective leaders are proactive and seek help that is needed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y also nurture an instructional program and school culture conducive to learning and professional growth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ffective leaders can have different styles and roles-teachers and other staff, including those in the district office, often have a leadership role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03dff"/>
                </a:solidFill>
                <a:latin typeface="Comic Sans MS"/>
              </a:rPr>
              <a:t>Effective School Leadership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INDICATORS: Administrative Leaders</a:t>
            </a:r>
            <a:r>
              <a:rPr b="1" i="1" lang="en-US" sz="2400" spc="-1" strike="noStrike">
                <a:solidFill>
                  <a:srgbClr val="ffb8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cilitate the development, articulation, implementation, and stewardship of a vision of learning that is shared and supported by the school community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dvocate, nurture, and sustain a school culture and instructional program conducive to student learning and staff professional growth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sure management of the organization, operations, and resources for a safe, efficient, and effective learning environment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llaborate with families and community members, responding to diverse community interests and needs, and mobilizing community resource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cilitate development and implementation of the school improvement plan with aligned professional development that supports vision and operational philosophy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2514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Effective School Leadership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INDICATORS:</a:t>
            </a:r>
            <a:r>
              <a:rPr b="1" i="1" lang="en-US" sz="4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Teacher Leaders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 research-based instructional program models researched-based practices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del team learning approach with a focus on planning lessons, assessing students, and group problem solving. Mentor other teachers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pport a safe, efficient, and effective learning environment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llaborate with parents, families, and other community members involved in the student learning environment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327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Effective School Leadership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INDICATORS: Student Leaders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udents work to remove barriers to learning.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udents are role models (Partnership for Learning).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udents are peer tutors (Partnership for Learning).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High Levels of Collaboration and Communication</a:t>
            </a:r>
            <a:endParaRPr b="1" lang="en-US" sz="2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6091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re is strong teamwork among teachers                 across all grades and with other staff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erybody is involved and connected to each other, including parents and members of the community, to identify problems and work on solution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INDICATORS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ructure and time for collaboration are determined and allocated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ff is highly involved in the school improvement effort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dels for decision making, problem solving, and conflict resolution are commonly known, used, and evident in the school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hools and community members work together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hool teams reflect the diversity of the school community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dff"/>
                </a:solidFill>
                <a:latin typeface="Comic Sans MS"/>
              </a:rPr>
              <a:t>Curriculum, Instruction and Assessment Aligned with Standards</a:t>
            </a:r>
            <a:endParaRPr b="1" lang="en-US" sz="28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planned and actual curriculum are aligned with the essential academic learning requirement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search-based teaching strategies and materials are used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ff understand the role of classroom and state assessments, what the assessments measure, and how student work is evaluated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INDICATORS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urriculum is aligned with state and local requirement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dopted curriculum materials and models are research based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struction is focused on high expectation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struction is personalized and encompasses broad, concerted curriculum materials and models are research based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dff"/>
                </a:solidFill>
                <a:latin typeface="Comic Sans MS"/>
              </a:rPr>
              <a:t>Curriculum, Instruction and Assessment Aligned with Standards</a:t>
            </a:r>
            <a:endParaRPr b="1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INDICATORS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struction is focused on high expectations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struction is personalized and encompasses broad, concerted systematic emphasis on motivation as well as knowledge and skills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struction is modified based on student achievement data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is a clear link between student assessment and instructional activities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udents are directly involved in the assessment of their learning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68706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03dff"/>
                </a:solidFill>
                <a:latin typeface="Comic Sans MS"/>
              </a:rPr>
              <a:t>Frequent Monitoring of Teaching and Learning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steady cycle of different assessments identify students who needs help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re support and instruction time is provided, either during the school day or outside normal school hours, to students who need more help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aching is adjusted based on frequent monitoring of student progress and needs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sessment results are used to focus and improve instructional programs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69644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03dff"/>
                </a:solidFill>
                <a:latin typeface="Comic Sans MS"/>
              </a:rPr>
              <a:t>Frequent Monitoring of Teaching and Learning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INDICATORS: Monitoring of Teaching: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achers modify classroom practice based on student achievement data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lassroom assessment is aligned with the curriculum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ritten/adopted curriculum is taught and assessments used to identify needs. Instruction is then aligned to needs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perienced teachers are paired to mentor less-experienced teachers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incipal is in the classroom often to evaluate implementation of best practice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aching and learning are the major focus areas of the staff supervision and evaluation process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re is adequate time for reflection and review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455840" indent="-207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achers/schools implement a record-keeping system for student achievement data to assist with short- and long-range planning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455840" indent="-207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achers allocate a significant amount of time to instruction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03dff"/>
                </a:solidFill>
                <a:latin typeface="Comic Sans MS"/>
              </a:rPr>
              <a:t>Frequent Monitoring of Teaching and Learning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INDICATORS: Monitoring of Student Learning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oals for achievable education outcomes are clear and explicit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achers have been trained and use classroom-based assessment to make instructional decisions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udent progress and areas for improvement are shared regularly with parents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pecific test results are closely analyzed to guide improvement efforts. Students who are in need of extra help are identified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ltiple assessments are used to measure student progress (WEA/NEA). Instructional materials are selected based on quality and appropriateness to student needs (WEA/NEA)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very student has a strong personal relationship with at least one adult in the school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udents are engaged in active participation, exploration, and research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0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7404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Successful Schools Research</a:t>
            </a:r>
            <a:endParaRPr b="1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coming a high-performing school takes many years of hard work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is no silver bullet - no single thing a school can do to ensure high student performance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earch has found that high-performing schools have a number of common characteristics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school may be doing well in some areas but need help in others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03dff"/>
                </a:solidFill>
                <a:latin typeface="Comic Sans MS"/>
              </a:rPr>
              <a:t>Focused Professional Development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strong emphasis is placed on training staff in areas of most need.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eedback from learning and teaching focuses extensive and ongoing professional development.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support is also aligned with the school or district vision and objectives.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0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Focused Professional Development</a:t>
            </a:r>
            <a:endParaRPr b="1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INDICATORS: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fessional development is based on a needs assessment and sustained over time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liberate decisions are made to ensure resources are allocated to maintain and sustain professional development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aders have focused much of their time in planning, implementing and monitoring professional development activitie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fessional development engages all stakeholder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fessional development reflects the National Staff Development Council standard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fessional development models best practice instruction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variety of professional development offerings are customized and based on individual and organizational needs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03dff"/>
                </a:solidFill>
                <a:latin typeface="Comic Sans MS"/>
              </a:rPr>
              <a:t>Supportive Learning Environment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school has a safe, civil, healthy and intellectually stimulating learning environment.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ents feel respected and connected with the staff and are engaged in learning.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struction is personalized and small learning environments increase student contact with teachers.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0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03dff"/>
                </a:solidFill>
                <a:latin typeface="Comic Sans MS"/>
              </a:rPr>
              <a:t>Supportive Learning Environment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INDICATORS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creases in student's bonding to school (opportunities, recognition, skills)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re is a warm and friendly atmosphere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re is a reduction in discipline referrals (number, severity)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st scores are improving (norm and criterion-referenced)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re is low staff turnover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udents and teachers are listening to others; respectful and courteou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udents take personal responsibility for their learning and behavior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ach student is supported by an adult advocate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0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03dff"/>
                </a:solidFill>
                <a:latin typeface="Comic Sans MS"/>
              </a:rPr>
              <a:t>High Level of Parent and Community Involvement</a:t>
            </a: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re is a sense that all have a responsibility to educate students, not just the teachers and staff in schools.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rents, businesses, social service agencies, and community colleges/universities all play a vital role in this effort.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03dff"/>
                </a:solidFill>
                <a:latin typeface="Comic Sans MS"/>
              </a:rPr>
              <a:t>High Level of Parent and Community Involvement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INDICATORS: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rents and community members have an active voice and involvement in the school improvement process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ff understands the importance of parent and community involvement in the school and creates opportunities for their involvement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ff creates and uses business partnerships to expand the curricula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rents are assisted with understanding child and adolescent development and child-rearing skills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rents and community members are recruited, trained. and provided a variety of volunteer activities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re is frequent and ongoing communication using a variety of means (e.g., newsletters, meetings, conferences, electronic)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verse opportunities exist for parent involvement (e.g., committees, volunteering, monitoring homework)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high degree of parent participation and involvement are noted at open houses, PTA events, and other school activitie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0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dff"/>
                </a:solidFill>
                <a:latin typeface="Comic Sans MS"/>
              </a:rPr>
              <a:t>Online Resource</a:t>
            </a:r>
            <a:br>
              <a:rPr sz="6000"/>
            </a:b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With Supporting Links…</a:t>
            </a:r>
            <a:endParaRPr b="1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ttp://www.k12.wa.us/SchoolImprovement/success.aspx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0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Bibliography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arth, R. S. (1990). Improving Schools from Within: Teachers, Parents, and Principals Can Make the Difference. San Francisco: Jossey-Bass Publishers. 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lase, J. and Kirby, P. C. (1992). Bringing Out the Best in Teachers: What Effective Principals Do. Newbury Park, CA: Corwin Press Inc. 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tton, K. (1995). Research You Can Use to Improve Results. Alexandria, VA: Association for Supervision and Curriculum Development and Portland, OR: Northwest Regional Educational Laboratory. 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uFour, R. and Eaker, R. (1998). Professional Learning Communities at Work: Best Practices for Enhancing Student Achievement. Bloomington, IN: National Educational Service and Alexandria, VA: Association for Supervision and Curriculum Development (ASCD). 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lickman, C. D. (1993). Renewing America's Schools: A Guide for School-Based Action. San Francisco, CA: Jossey-Bass Publishers. 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olcomb, E. L. (2001). Asking the Right Questions: Techniques for Collaboration and School Change. Thousand Oaks, CA: Corwin Press. 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arzano, R. J., Pickering, D. J., and Pollock, J. E. (2001). Classroom Instruction that Works: Research-Based Strategies For Increasing Student Achievement. Alexandria, VA.: ASCD. 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wmann, F. M. and Associates. (1996). Authentic Achievement: Restructuring Schools for Intellectual Quality. San Francisco, CA: Jossey-Bass Publishers. 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chlechty, P. C. (2001). Shaking Up the School House: How to Support and Sustain Educational Innovation. San Francisco, CA: Jossey-Bass. 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chmoker, M. (1999). Results: The Key to Continuous School Improvement. (2nd ed.). Alexandria, VA: ASCD. 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ge, P., Cambron-McCabe, N., Lucas, T., Smith, B., Dutton, J., and Kleiner, A. (2000). Schools That Learn: A Fifth Discipline Fieldbook for Educators, Parents, and Everyone Who Cares about Education. New York: Currency / Doubleday. 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Zemelman, S., Daniels, H., and Hyde, A. (1998). Best Practice: New Standards for Teaching and Learning in America's Schools. (2nd ed.). Portsmouth, NH: Heinemann.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0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500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Responses from Educators</a:t>
            </a: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9 Common Characteristics</a:t>
            </a:r>
            <a:br>
              <a:rPr sz="4400"/>
            </a:b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(Click to read more online)</a:t>
            </a:r>
            <a:endParaRPr b="1" lang="en-US" sz="2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ear and Shared Focus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igh Standards and Expectations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ffective School Leadership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igh Levels of Collaboration and Communication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urriculum, Instruction and Assessment Aligned with Standards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quent Monitoring of Teaching and Learning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cused Professional Development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pportive Learning Environment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igh Levels of Community and Parent Involvemen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03dff"/>
                </a:solidFill>
                <a:latin typeface="Verdana"/>
              </a:rPr>
              <a:t>Clear and Shared Focus</a:t>
            </a:r>
            <a:endParaRPr b="1" lang="en-US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verybody knows where they are going and wh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focus is on achieving a shared vision, and all understand their role in achieving the vis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focus and vision are developed from common beliefs and values, creating a consistent direction for all involved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75567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dff"/>
                </a:solidFill>
                <a:latin typeface="Verdana"/>
              </a:rPr>
              <a:t>Clear and Shared Focus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INDICATORS: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ll participants can articulate the common purpose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use of time, materials, and professional development activities are aligned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earning goals are developed and prioritized according to district or building guidelines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re is a commitment to long-range, continuous improvement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common focus is directly related to assignment of staff time and resource allocation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ll staff can articulate how the school is improving student learning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ff study test results and establish a plan to attack areas of weaknes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fessional development reflects the National Staff Development Council Standard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03dff"/>
                </a:solidFill>
                <a:latin typeface="Comic Sans MS"/>
              </a:rPr>
              <a:t>High Standards and Expectations</a:t>
            </a:r>
            <a:endParaRPr b="1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391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eachers and staff believe that all students can learn and meet high standards.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udents are offered an ambitious and rigorous course of study.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dff"/>
                </a:solidFill>
                <a:latin typeface="Comic Sans MS"/>
              </a:rPr>
              <a:t>High Standards and Expectations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INDICATORS: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struction is focused on high expectations that implements powerful teaching and learning strategies including action inquiry, in-depth learning, and performance assessments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struction is focused on high expectations that implements powerful teaching and learning strategies including action inquiry, in-depth learning, and performance assessments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472040" indent="-210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ff is consistent and purposeful in cross-grade-level conversations that result in an alignment of the curriculum within and among the content areas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457560" y="-36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dff"/>
                </a:solidFill>
                <a:latin typeface="Comic Sans MS"/>
              </a:rPr>
              <a:t>High </a:t>
            </a:r>
            <a:r>
              <a:rPr b="1" i="1" lang="en-US" sz="3600" spc="-1" strike="noStrike">
                <a:solidFill>
                  <a:srgbClr val="703dff"/>
                </a:solidFill>
                <a:latin typeface="Comic Sans MS"/>
              </a:rPr>
              <a:t>Standards</a:t>
            </a:r>
            <a:r>
              <a:rPr b="1" i="1" lang="en-US" sz="3200" spc="-1" strike="noStrike">
                <a:solidFill>
                  <a:srgbClr val="703dff"/>
                </a:solidFill>
                <a:latin typeface="Comic Sans MS"/>
              </a:rPr>
              <a:t> and Expectations</a:t>
            </a:r>
            <a:endParaRPr b="1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609480"/>
            <a:ext cx="83055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ff focuses on commonalities that cut across grades and subject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re is a clear link between student assessment and instructional activitie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achers focus on competence, not coverage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udents are aware of expectations, produce quality work, and present to real audiences (Gates)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pectations connect to the real world, and students are role models and peer educators (Partnership for Learning)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ff and students articulate their belief in their capacity for succes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struction is personalized and encompasses a broad, concerted, and systematic emphasis on motivation as well as knowledge and skill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 participants can articulate the common purpose.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03dff"/>
                </a:solidFill>
                <a:latin typeface="Comic Sans MS"/>
              </a:rPr>
              <a:t>High Standards and Expectations</a:t>
            </a:r>
            <a:endParaRPr b="1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use of time, materials, and professional development activities are aligned with common focu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arning goals are developed and prioritized according to district or building guideline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re is a commitment to long-range, continuous improvement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common focus is directly related to assignment of staff time and resource allocation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 staff can articulate how the school is improving student learning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ff study test results and establish a plan to attack areas of weaknes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fessional development reflects the National Staff Development Council Standard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re is a sustained emphasis on learning.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5:17:04Z</dcterms:created>
  <dc:creator>jmarino</dc:creator>
  <dc:description/>
  <dc:language>en-US</dc:language>
  <cp:lastModifiedBy>Windows User</cp:lastModifiedBy>
  <dcterms:modified xsi:type="dcterms:W3CDTF">2011-03-10T18:18:22Z</dcterms:modified>
  <cp:revision>608</cp:revision>
  <dc:subject/>
  <dc:title>Slide 1</dc:title>
</cp:coreProperties>
</file>